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gif" ContentType="image/gif"/>
  <Override PartName="/ppt/media/image8.wmf" ContentType="image/x-wmf"/>
  <Override PartName="/ppt/media/image13.wmf" ContentType="image/x-wmf"/>
  <Override PartName="/ppt/media/image6.png" ContentType="image/png"/>
  <Override PartName="/ppt/media/image7.gif" ContentType="image/gif"/>
  <Override PartName="/ppt/media/image9.jpeg" ContentType="image/jpeg"/>
  <Override PartName="/ppt/media/image10.jpeg" ContentType="image/jpeg"/>
  <Override PartName="/ppt/media/image11.wmf" ContentType="image/x-wmf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CAC9-01FF-4003-AF81-C09932469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A04D-FFA2-4D57-B297-A02245266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BBE4-8536-4777-AE69-32F9B4B9A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D289-FAF4-4CE8-96FC-76F93D11C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9A221-26FE-4219-87F3-BDBC1A377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B8BE7-AF2A-41E1-B242-4461BE44F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3C6AF-FF5C-4284-95B0-32EAF4962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F94F0-1BCC-4548-99FC-6C7830A69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67FB0-3FC4-4976-A45E-EA4F548E5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C9F7F-559A-45F8-9ACA-E4486ACF2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F5F6C-FC6B-428C-8485-F76CC588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ED5B-37DA-4F7B-A998-11651D01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F8E43-DCD2-43D8-BA97-E130C705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E17D6-9A54-421C-9B3D-909F41DF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6C02B-EA48-4614-B05D-DEDDEE649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09850-A780-4E8A-B0D4-DEAE844D0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4756C-8760-450F-82B3-E05FA9C0F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CEE0-4B2F-43A1-8892-F08B656E8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3D8F-1D2A-4163-88E4-0D335067A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BDB8-B4DA-4CF1-8681-670C9116B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693D-361B-40A8-BB29-E80646D6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24DF-6BA3-4F7F-A339-6908DB43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2653-C75A-444A-97AF-134F9834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80C3-74F6-4D34-9D7A-2B54E8EA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19B7C-9B3F-466E-8397-0BB3989BAE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F2C06-BBD3-4204-9360-009ED76A90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audio" Target="file:///tmp/home/.config/libreoffice/4/user/gallery/barney.wav" TargetMode="External"/><Relationship Id="rId3" Type="http://schemas.microsoft.com/office/2007/relationships/media" Target="file:///tmp/home/.config/libreoffice/4/user/gallery/barney.wav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file:///tmp/home/.config/libreoffice/4/user/gallery/SN00014A.wav" TargetMode="External"/><Relationship Id="rId3" Type="http://schemas.microsoft.com/office/2007/relationships/media" Target="file:///tmp/home/.config/libreoffice/4/user/gallery/SN00014A.wav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SN00692A.wav" TargetMode="External"/><Relationship Id="rId2" Type="http://schemas.microsoft.com/office/2007/relationships/media" Target="file:///tmp/home/.config/libreoffice/4/user/gallery/SN00692A.wav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file:///tmp/home/.config/libreoffice/4/user/gallery/j0074874.wav" TargetMode="External"/><Relationship Id="rId3" Type="http://schemas.microsoft.com/office/2007/relationships/media" Target="file:///tmp/home/.config/libreoffice/4/user/gallery/j0074874.wav" TargetMode="External"/><Relationship Id="rId4" Type="http://schemas.openxmlformats.org/officeDocument/2006/relationships/image" Target="../media/image6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600200" y="533520"/>
            <a:ext cx="65530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cap="sq"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It's A Mystery!</a:t>
            </a:r>
            <a:endParaRPr b="0" lang="en-US" sz="4400" spc="1" strike="noStrike">
              <a:ln cap="sq"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90" name="detectiv2" descr=""/>
          <p:cNvPicPr/>
          <p:nvPr/>
        </p:nvPicPr>
        <p:blipFill>
          <a:blip r:embed="rId3"/>
          <a:stretch/>
        </p:blipFill>
        <p:spPr>
          <a:xfrm>
            <a:off x="3048120" y="327672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057400" y="2666880"/>
            <a:ext cx="52578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663300"/>
                </a:solidFill>
                <a:uFillTx/>
                <a:latin typeface="Times New Roman"/>
              </a:rPr>
              <a:t>Drawing Conclusio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43000" y="1600200"/>
            <a:ext cx="7315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When you draw a conclusion you        use 2 thing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09680" y="289548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ahoma"/>
              </a:rPr>
              <a:t>What you know in your 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35053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ahoma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33720" y="4267080"/>
            <a:ext cx="57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ahoma"/>
              </a:rPr>
              <a:t>What you’ve read in the story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19320" y="5181480"/>
            <a:ext cx="72388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Comic Sans MS"/>
              </a:rPr>
              <a:t>A conclusion is the decision you come to when you put these two together.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219320" y="533520"/>
            <a:ext cx="67816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Drawing Conclusions: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-838080" y="1905120"/>
            <a:ext cx="8153280" cy="35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I sleep in a cri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I drink from a bott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I cannot walk or tal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Who am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52880" y="198108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I know babies sleep in crib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266688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I know babies drink bott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81480" y="3505320"/>
            <a:ext cx="358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I know babies can’t do these things y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95680" y="495288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Must be a baby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j0365298" descr=""/>
          <p:cNvPicPr/>
          <p:nvPr/>
        </p:nvPicPr>
        <p:blipFill>
          <a:blip r:embed="rId1"/>
          <a:stretch/>
        </p:blipFill>
        <p:spPr>
          <a:xfrm>
            <a:off x="6172200" y="4038480"/>
            <a:ext cx="2438280" cy="2438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571500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1447920" y="457200"/>
            <a:ext cx="41907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For Example: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838080" y="1676520"/>
            <a:ext cx="5410440" cy="37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Put me on your f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I will keep you         warm and d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Wear me when it rain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2133720"/>
            <a:ext cx="37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I know you wear socks and shoes on your fe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76920" y="3048120"/>
            <a:ext cx="373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Both of these keep you warm, but only shoes keep you d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4572000"/>
            <a:ext cx="464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What do you wear, on your     feet, when it rai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219320" y="5257800"/>
            <a:ext cx="40384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516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rainboots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1" name="AG00501_" descr=""/>
          <p:cNvPicPr/>
          <p:nvPr/>
        </p:nvPicPr>
        <p:blipFill>
          <a:blip r:embed="rId1"/>
          <a:stretch/>
        </p:blipFill>
        <p:spPr>
          <a:xfrm>
            <a:off x="5486400" y="3505320"/>
            <a:ext cx="3352680" cy="302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548640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1828800" y="457200"/>
            <a:ext cx="61722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Let's Try Again!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762120" y="1981080"/>
            <a:ext cx="81532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You need me before you can mail a letter. Paste me on an envelo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What am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828800" y="457200"/>
            <a:ext cx="6172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Your Turn!!!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116" name=""/>
          <p:cNvSpPr/>
          <p:nvPr/>
        </p:nvSpPr>
        <p:spPr>
          <a:xfrm>
            <a:off x="1219320" y="4876920"/>
            <a:ext cx="70866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99"/>
                </a:solidFill>
                <a:latin typeface="Comic Sans MS"/>
              </a:rPr>
              <a:t>What did you know in your hea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20840400">
            <a:off x="1066680" y="3276360"/>
            <a:ext cx="2667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You need a postman, an envelope, and a stamp to mail a letter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6600">
            <a:off x="6095880" y="3276360"/>
            <a:ext cx="251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Only one of these would be pasted onto an envelop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bs00737_" descr=""/>
          <p:cNvPicPr/>
          <p:nvPr/>
        </p:nvPicPr>
        <p:blipFill>
          <a:blip r:embed="rId1"/>
          <a:stretch/>
        </p:blipFill>
        <p:spPr>
          <a:xfrm>
            <a:off x="3581280" y="2209680"/>
            <a:ext cx="24717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447920" y="1676520"/>
            <a:ext cx="6553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I am white.  You need me every day.  You drink me when you are thirsty.  I can make a moustach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What am I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828800" y="457200"/>
            <a:ext cx="6172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And Again!!!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122" name=""/>
          <p:cNvSpPr/>
          <p:nvPr/>
        </p:nvSpPr>
        <p:spPr>
          <a:xfrm>
            <a:off x="1219320" y="4876920"/>
            <a:ext cx="70866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99"/>
                </a:solidFill>
                <a:latin typeface="Comic Sans MS"/>
              </a:rPr>
              <a:t>What did you know in your hea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534520" y="6248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066680" y="304812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Lots of things are whit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48520" y="3048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You need a lot of thing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396252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What is white and you drink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4114800"/>
            <a:ext cx="37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AND, It makes a moustach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362320" y="1905120"/>
            <a:ext cx="510516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I know!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129" name="jonahmilkm" descr=""/>
          <p:cNvPicPr/>
          <p:nvPr/>
        </p:nvPicPr>
        <p:blipFill>
          <a:blip r:embed="rId4"/>
          <a:stretch/>
        </p:blipFill>
        <p:spPr>
          <a:xfrm>
            <a:off x="1905120" y="1828800"/>
            <a:ext cx="579096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09480" y="1752480"/>
            <a:ext cx="8153640" cy="26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ahoma"/>
              </a:rPr>
              <a:t>I look like a baby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ahoma"/>
              </a:rPr>
              <a:t>You can give me a name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ahoma"/>
              </a:rPr>
              <a:t>Children like to play with m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ahoma"/>
              </a:rPr>
              <a:t>What am I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828800" y="457200"/>
            <a:ext cx="6172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You are AWESOME!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1143000" y="4876920"/>
            <a:ext cx="70866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99"/>
                </a:solidFill>
                <a:latin typeface="Comic Sans MS"/>
              </a:rPr>
              <a:t>What did you know in your hea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175248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What looks like a bab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400800" y="190512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Dolls?  Pictures? Hmm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90720" y="3886200"/>
            <a:ext cx="259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You can name dolls, not pictu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00800" y="3657600"/>
            <a:ext cx="213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Children play with dolls, not pictu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362320" y="1905120"/>
            <a:ext cx="510516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I know!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138" name="j0175479" descr=""/>
          <p:cNvPicPr/>
          <p:nvPr/>
        </p:nvPicPr>
        <p:blipFill>
          <a:blip r:embed="rId1"/>
          <a:stretch/>
        </p:blipFill>
        <p:spPr>
          <a:xfrm>
            <a:off x="3048120" y="1447920"/>
            <a:ext cx="3360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1600200"/>
            <a:ext cx="7391160" cy="21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ahoma"/>
              </a:rPr>
              <a:t>I grow on an ear.  Cook me in hot oil.  I will puff up and taste good.  Some people microwave me.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000" spc="-1" strike="noStrike">
                <a:solidFill>
                  <a:srgbClr val="000099"/>
                </a:solidFill>
                <a:latin typeface="Tahoma"/>
              </a:rPr>
              <a:t>What am I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4876920"/>
            <a:ext cx="70866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99"/>
                </a:solidFill>
                <a:latin typeface="Comic Sans MS"/>
              </a:rPr>
              <a:t>What did you know in your hea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828800" y="457200"/>
            <a:ext cx="6172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Last Time!!!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142" name=""/>
          <p:cNvSpPr/>
          <p:nvPr/>
        </p:nvSpPr>
        <p:spPr>
          <a:xfrm>
            <a:off x="914400" y="3048120"/>
            <a:ext cx="2590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What grows on an ear?  Ear wax?  Earrings?  Corn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00800" y="32004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You wouldn’t cook or taste ear wax or earring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33720" y="4267080"/>
            <a:ext cx="510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I know corn will puff up and it is sometimes cooked in the microwave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362320" y="1905120"/>
            <a:ext cx="510516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I know!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146" name="j0250766" descr=""/>
          <p:cNvPicPr/>
          <p:nvPr/>
        </p:nvPicPr>
        <p:blipFill>
          <a:blip r:embed="rId1"/>
          <a:stretch/>
        </p:blipFill>
        <p:spPr>
          <a:xfrm>
            <a:off x="2286000" y="838080"/>
            <a:ext cx="5146560" cy="60199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6934320" y="6172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66294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j0156953" descr=""/>
          <p:cNvPicPr/>
          <p:nvPr/>
        </p:nvPicPr>
        <p:blipFill>
          <a:blip r:embed="rId1"/>
          <a:stretch/>
        </p:blipFill>
        <p:spPr>
          <a:xfrm>
            <a:off x="1523880" y="1219320"/>
            <a:ext cx="6553440" cy="43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02:44:37Z</dcterms:created>
  <dc:creator>Melissa Caro</dc:creator>
  <dc:description/>
  <dc:language>en-US</dc:language>
  <cp:lastModifiedBy>Melissa Caro</cp:lastModifiedBy>
  <dcterms:modified xsi:type="dcterms:W3CDTF">2006-09-12T02:42:07Z</dcterms:modified>
  <cp:revision>19</cp:revision>
  <dc:subject/>
  <dc:title>PowerPoint Presentation</dc:title>
</cp:coreProperties>
</file>